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0A0F7-FBC9-416B-A608-7A28D570E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E7C82-21AE-4F4F-BFEA-D4C5D056B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F5F83-7602-4DDE-8DAA-5DF0E7BA3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B167B-06B7-42E8-AF76-09698D6E5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0CE7-6E63-40A3-9D05-7D5BF81EB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660EA-5A3C-4D56-A2EC-52CC079E4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DCF6-9A99-4344-9889-F12BBD3E4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EE64-9785-436C-8C48-EE121FA7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1ADFC-53AC-4E1A-BA13-AF971F76A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90C17-0A14-4085-8276-6BC06EE87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BEA0-40DD-4649-9BE5-119CDDC7F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C4162-BAC1-4A57-8016-3208BBB4B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5105-3ACC-46AA-8262-C97E27961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800" y="609480"/>
            <a:ext cx="7772400" cy="5943600"/>
          </a:xfrm>
          <a:prstGeom prst="rect">
            <a:avLst/>
          </a:prstGeom>
          <a:noFill/>
          <a:ln w="9360">
            <a:solidFill>
              <a:srgbClr val="cc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iger Talk</a:t>
            </a:r>
            <a:br>
              <a:rPr sz="5400"/>
            </a:br>
            <a:r>
              <a:rPr b="0" lang="en-US" sz="4400" spc="-1" strike="noStrike">
                <a:solidFill>
                  <a:srgbClr val="000000"/>
                </a:solidFill>
                <a:latin typeface="Times New Roman"/>
              </a:rPr>
              <a:t>John Heyenga </a:t>
            </a:r>
            <a:br>
              <a:rPr sz="4400"/>
            </a:br>
            <a:r>
              <a:rPr b="0" lang="en-US" sz="4400" spc="-1" strike="noStrike">
                <a:solidFill>
                  <a:srgbClr val="000000"/>
                </a:solidFill>
                <a:latin typeface="Times New Roman"/>
              </a:rPr>
              <a:t>Tiger Talk: Tonal Tools for Classroom Management</a:t>
            </a:r>
            <a:br>
              <a:rPr sz="4400"/>
            </a:br>
            <a:br>
              <a:rPr sz="4400"/>
            </a:br>
            <a:r>
              <a:rPr b="0" lang="en-US" sz="4400" spc="-1" strike="noStrike">
                <a:solidFill>
                  <a:srgbClr val="000000"/>
                </a:solidFill>
                <a:latin typeface="Times New Roman"/>
              </a:rPr>
              <a:t>Education 702.22  Seminar in applied theory and research 1. Spring 2010</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rot="10800000">
            <a:off x="0" y="6858000"/>
            <a:ext cx="9144000" cy="76320"/>
          </a:xfrm>
          <a:prstGeom prst="rect">
            <a:avLst/>
          </a:prstGeom>
          <a:solidFill>
            <a:srgbClr val="00ff00"/>
          </a:solidFill>
          <a:ln w="0">
            <a:noFill/>
          </a:ln>
        </p:spPr>
        <p:txBody>
          <a:bodyPr lIns="90000" rIns="90000" tIns="29520" bIns="2952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61" name="PlaceHolder 2"/>
          <p:cNvSpPr>
            <a:spLocks noGrp="1"/>
          </p:cNvSpPr>
          <p:nvPr>
            <p:ph/>
          </p:nvPr>
        </p:nvSpPr>
        <p:spPr>
          <a:xfrm>
            <a:off x="609480" y="1599840"/>
            <a:ext cx="784872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Meiners, E. B., &amp; Miller, V. D. (2004). The Effect of Formality and Relational Tone on Supervisor/Subordinate Negotiation Episodes </a:t>
            </a:r>
            <a:r>
              <a:rPr b="0" i="1" lang="en-US" sz="1800" spc="-1" strike="noStrike">
                <a:solidFill>
                  <a:srgbClr val="ffffff"/>
                </a:solidFill>
                <a:latin typeface="Times New Roman"/>
                <a:ea typeface="Arial"/>
              </a:rPr>
              <a:t>Western Journal of Communication, 68</a:t>
            </a:r>
            <a:r>
              <a:rPr b="0" lang="en-US" sz="1800" spc="-1" strike="noStrike">
                <a:solidFill>
                  <a:srgbClr val="ffffff"/>
                </a:solidFill>
                <a:latin typeface="Times New Roman"/>
                <a:ea typeface="Arial"/>
              </a:rPr>
              <a:t>(8), 302-321.</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Monroe, C. R., &amp; Obidah, J. E. (2004). The Influence Of Cultural Synchronization On A Teacher’s Perceptions Of Disruption: A Case Study Of An African American Middle-School Classroom. </a:t>
            </a:r>
            <a:r>
              <a:rPr b="0" i="1" lang="en-US" sz="1800" spc="-1" strike="noStrike">
                <a:solidFill>
                  <a:srgbClr val="ffffff"/>
                </a:solidFill>
                <a:latin typeface="Times New Roman"/>
                <a:ea typeface="Arial"/>
              </a:rPr>
              <a:t>Journal of Teacher Education, 55</a:t>
            </a:r>
            <a:r>
              <a:rPr b="0" lang="en-US" sz="1800" spc="-1" strike="noStrike">
                <a:solidFill>
                  <a:srgbClr val="ffffff"/>
                </a:solidFill>
                <a:latin typeface="Times New Roman"/>
                <a:ea typeface="Arial"/>
              </a:rPr>
              <a:t>(3), 256-286.</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n-Violent Communication Statement : NVC website: http://www.cnvc.org/node/369)</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Rogers, B. (1995). 5 Tricky Personalities and How to Handle Them. </a:t>
            </a:r>
            <a:r>
              <a:rPr b="0" i="1" lang="en-US" sz="1800" spc="-1" strike="noStrike">
                <a:solidFill>
                  <a:srgbClr val="ffffff"/>
                </a:solidFill>
                <a:latin typeface="Times New Roman"/>
                <a:ea typeface="Arial"/>
              </a:rPr>
              <a:t>Instructor, 105 </a:t>
            </a:r>
            <a:r>
              <a:rPr b="0" lang="en-US" sz="1800" spc="-1" strike="noStrike">
                <a:solidFill>
                  <a:srgbClr val="ffffff"/>
                </a:solidFill>
                <a:latin typeface="Times New Roman"/>
                <a:ea typeface="Arial"/>
              </a:rPr>
              <a:t>(1), 16-19,24-25.</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Rosen, L. A. (1990). A Survey of Classroom Management Practices. </a:t>
            </a:r>
            <a:r>
              <a:rPr b="0" i="1" lang="en-US" sz="1800" spc="-1" strike="noStrike">
                <a:solidFill>
                  <a:srgbClr val="ffffff"/>
                </a:solidFill>
                <a:latin typeface="Times New Roman"/>
                <a:ea typeface="Arial"/>
              </a:rPr>
              <a:t>Journal of School Psychology, 28 </a:t>
            </a:r>
            <a:r>
              <a:rPr b="0" lang="en-US" sz="1800" spc="-1" strike="noStrike">
                <a:solidFill>
                  <a:srgbClr val="ffffff"/>
                </a:solidFill>
                <a:latin typeface="Times New Roman"/>
                <a:ea typeface="Arial"/>
              </a:rPr>
              <a:t>(3), 257-269.</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Simpson, A. W., &amp; Erickson, M. T. (1983). Teachers’ Verbal and Nonverbal Communication Patterns as a</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Function of Teacher Race, Student Gender, and Student Race. </a:t>
            </a:r>
            <a:r>
              <a:rPr b="0" i="1" lang="en-US" sz="1800" spc="-1" strike="noStrike">
                <a:solidFill>
                  <a:srgbClr val="ffffff"/>
                </a:solidFill>
                <a:latin typeface="Times New Roman"/>
                <a:ea typeface="Arial"/>
              </a:rPr>
              <a:t>American Educational Research Journal, 20</a:t>
            </a:r>
            <a:r>
              <a:rPr b="0" lang="en-US" sz="1800" spc="-1" strike="noStrike">
                <a:solidFill>
                  <a:srgbClr val="ffffff"/>
                </a:solidFill>
                <a:latin typeface="Times New Roman"/>
                <a:ea typeface="Arial"/>
              </a:rPr>
              <a:t>(2), 183-198.</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of Content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ment of Proble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ry Review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Violent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bliograph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228600" y="1219320"/>
            <a:ext cx="8686800" cy="5410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my work in at an after-school program in the Bronx, I have encountered many problems in communication. Some of the students’ behavior requires disciplinary response. When these situations occur, I have observed that the students present challenges to the teachers. When the response to this challenge is a punishment, or expression of frustration, the result is that the student takes the miscommunication to the next level. Such a verbal struggle can escalate to a futile and exhausting disciplinary deadlock. On the other hand, when the  teacher responds with authority, but calmly and supportively, the conflict can be defus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experience has led me to investigate the occurrence of this technique in other educational scenarios, and its documentation in other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ment of Problem</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ting: NYC public school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1: Profane language and transgressive behavior, avoidance of academic work.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2: Punitive teacher tone and discipline failur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 Breakdown of trust and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Review,1</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142640"/>
            <a:ext cx="7772400" cy="4800600"/>
          </a:xfrm>
          <a:prstGeom prst="rect">
            <a:avLst/>
          </a:prstGeom>
          <a:noFill/>
          <a:ln w="9360">
            <a:solidFill>
              <a:srgbClr val="ccffff"/>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cles on Tone of Voice</a:t>
            </a:r>
            <a:endParaRPr b="0" lang="en-US" sz="2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wn, D. F. (2005 ). Idea of “Congruent Communicat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einers, E. B., &amp; Miller, V. D. (2004). A general tonal approach to dealing with “subordinates.” A study showing how polite and less severe tones lead to a better work environmen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enman, L. F. (2007). Business communication model, applicable to educat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B. (1995). 5 Tricky Personalities and How to Handle Them. </a:t>
            </a:r>
            <a:r>
              <a:rPr b="0" i="1" lang="en-US" sz="2000" spc="-1" strike="noStrike">
                <a:solidFill>
                  <a:srgbClr val="ffffff"/>
                </a:solidFill>
                <a:latin typeface="Times New Roman"/>
                <a:ea typeface="Times New Roman"/>
              </a:rPr>
              <a:t>Instructor, 105 </a:t>
            </a:r>
            <a:r>
              <a:rPr b="0" lang="en-US" sz="2000" spc="-1" strike="noStrike">
                <a:solidFill>
                  <a:srgbClr val="ffffff"/>
                </a:solidFill>
                <a:latin typeface="Times New Roman"/>
                <a:ea typeface="Times New Roman"/>
              </a:rPr>
              <a:t>(1), 16-19,24-25. Writes about ways to communicate with difficult student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Review, 2</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cles on Intercultural Communication</a:t>
            </a:r>
            <a:endParaRPr b="0" lang="en-US" sz="24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bbuck, S. M., &amp; Zembylas, M. (2008). Effective emotions and communications in an urban school. </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mpson, A. W., &amp; Erickson, M. T. (1983). Different types of teacher communication, including non-verbal, in response to students’ cultural identitie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acNaughton, G., Hughes, P., &amp; Smith, K. (2007). Ways to relate to challenging students. The key is for the educator to try and start anew with the students and relate to them in a way that positively recognizes their differen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609120"/>
            <a:ext cx="7848720" cy="58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Times New Roman"/>
              </a:rPr>
              <a:t>Non-Violent Communication</a:t>
            </a:r>
            <a:br>
              <a:rPr sz="2000"/>
            </a:br>
            <a:br>
              <a:rPr sz="2000"/>
            </a:br>
            <a:br>
              <a:rPr sz="2000"/>
            </a:br>
            <a:r>
              <a:rPr b="0" lang="en-US" sz="2000" spc="-1" strike="noStrike">
                <a:solidFill>
                  <a:srgbClr val="ffffff"/>
                </a:solidFill>
                <a:latin typeface="Times New Roman"/>
              </a:rPr>
              <a:t>“This approach to communication emphasizes compassion as the motivation for action rather than fear, guilt, shame, blame, coercion, threat or justification for punishment. In other words, it is about getting what you want for reasons you will not regret later. NVC is NOT about getting people to do what we want. It is about creating a quality of connection that gets everyone’s needs met through compassionate giving.”</a:t>
            </a:r>
            <a:br>
              <a:rPr sz="2000"/>
            </a:br>
            <a:r>
              <a:rPr b="0" lang="en-US" sz="2000" spc="-1" strike="noStrike">
                <a:solidFill>
                  <a:srgbClr val="ffffff"/>
                </a:solidFill>
                <a:latin typeface="Times New Roman"/>
              </a:rPr>
              <a:t>(NVC website: http://www.cnvc.org/node/36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Tiger Tal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and experience show that the majority of teachers and students in cities use different cultural modes of communic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and experience will show that discipline using punitive tones of voice is not effective with these student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othesis:A tone of voice that is empathetic and soothing, but authoritative, is more effe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erry, R. A. W. (2006). Inclusion, Power, and Community: Teachers and Students Interpret the Language of Community in an Inclusion Classroom. </a:t>
            </a:r>
            <a:r>
              <a:rPr b="0" i="1" lang="en-US" sz="1600" spc="-1" strike="noStrike">
                <a:solidFill>
                  <a:srgbClr val="ffffff"/>
                </a:solidFill>
                <a:latin typeface="Arial"/>
                <a:ea typeface="Arial"/>
              </a:rPr>
              <a:t>American Educational Research Journal, 43</a:t>
            </a:r>
            <a:r>
              <a:rPr b="0" lang="en-US" sz="1600" spc="-1" strike="noStrike">
                <a:solidFill>
                  <a:srgbClr val="ffffff"/>
                </a:solidFill>
                <a:latin typeface="Arial"/>
                <a:ea typeface="Arial"/>
              </a:rPr>
              <a:t>(3), 489–529.</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rown, D. F. (2005 ). The Significance of Congruent Communication in Effective Classroom Management. </a:t>
            </a:r>
            <a:r>
              <a:rPr b="0" i="1" lang="en-US" sz="1600" spc="-1" strike="noStrike">
                <a:solidFill>
                  <a:srgbClr val="ffffff"/>
                </a:solidFill>
                <a:latin typeface="Arial"/>
                <a:ea typeface="Arial"/>
              </a:rPr>
              <a:t>The Clearing House</a:t>
            </a:r>
            <a:r>
              <a:rPr b="0" lang="en-US" sz="1600" spc="-1" strike="noStrike">
                <a:solidFill>
                  <a:srgbClr val="ffffff"/>
                </a:solidFill>
                <a:latin typeface="Arial"/>
                <a:ea typeface="Arial"/>
              </a:rPr>
              <a:t>, 12-18.</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hubbuck, S. M., &amp; Zembylas, M. (2008). The Emotional Ambivalence of Socially Just Teaching: A Case Study of a Novice Urban Schoolteacher. </a:t>
            </a:r>
            <a:r>
              <a:rPr b="0" i="1" lang="en-US" sz="1600" spc="-1" strike="noStrike">
                <a:solidFill>
                  <a:srgbClr val="ffffff"/>
                </a:solidFill>
                <a:latin typeface="Arial"/>
                <a:ea typeface="Arial"/>
              </a:rPr>
              <a:t>American Educational Research Journal, 45</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 274-318.</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uzwik, M. M., Nystrand, M., Kelly, S., &amp; Sherry, M. B. (2008). Oral Narrative Genres as Dialogic Resources for Classroom Literature Study: A Contextualized Case Study of Conversational Narrative Discussion. </a:t>
            </a:r>
            <a:r>
              <a:rPr b="0" i="1" lang="en-US" sz="1600" spc="-1" strike="noStrike">
                <a:solidFill>
                  <a:srgbClr val="ffffff"/>
                </a:solidFill>
                <a:latin typeface="Arial"/>
                <a:ea typeface="Arial"/>
              </a:rPr>
              <a:t>American Educational Research Journal, 45</a:t>
            </a:r>
            <a:r>
              <a:rPr b="0" lang="en-US" sz="1600" spc="-1" strike="noStrike">
                <a:solidFill>
                  <a:srgbClr val="ffffff"/>
                </a:solidFill>
                <a:latin typeface="Arial"/>
                <a:ea typeface="Arial"/>
              </a:rPr>
              <a:t>(4), 1111-1154.</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Kenman, L. F. (2007). Tone And Style: Developing A Neglected Segment</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f Business Communication. </a:t>
            </a:r>
            <a:r>
              <a:rPr b="0" i="1" lang="en-US" sz="1600" spc="-1" strike="noStrike">
                <a:solidFill>
                  <a:srgbClr val="ffffff"/>
                </a:solidFill>
                <a:latin typeface="Arial"/>
                <a:ea typeface="Arial"/>
              </a:rPr>
              <a:t>Business Communication Quarterly</a:t>
            </a:r>
            <a:r>
              <a:rPr b="0" lang="en-US" sz="1600" spc="-1" strike="noStrike">
                <a:solidFill>
                  <a:srgbClr val="ffffff"/>
                </a:solidFill>
                <a:latin typeface="Arial"/>
                <a:ea typeface="Arial"/>
              </a:rPr>
              <a:t>, 305-309.</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cNaughton, G., Hughes, P., &amp; Smith, K. (2007). Rethinking Approaches to Working With Children Who Challenge: Action Learning for Emancipatory Practice. </a:t>
            </a:r>
            <a:r>
              <a:rPr b="0" i="1" lang="en-US" sz="1600" spc="-1" strike="noStrike">
                <a:solidFill>
                  <a:srgbClr val="ffffff"/>
                </a:solidFill>
                <a:latin typeface="Arial"/>
                <a:ea typeface="Arial"/>
              </a:rPr>
              <a:t>International Journal of Early Childhood, 39</a:t>
            </a:r>
            <a:r>
              <a:rPr b="0" lang="en-US" sz="1600" spc="-1" strike="noStrike">
                <a:solidFill>
                  <a:srgbClr val="ffffff"/>
                </a:solidFill>
                <a:latin typeface="Arial"/>
                <a:ea typeface="Arial"/>
              </a:rPr>
              <a:t>(1), 39-5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21:54:08Z</dcterms:created>
  <dc:creator>user</dc:creator>
  <dc:description/>
  <dc:language>en-US</dc:language>
  <cp:lastModifiedBy>user</cp:lastModifiedBy>
  <dcterms:modified xsi:type="dcterms:W3CDTF">2010-03-16T15:19:43Z</dcterms:modified>
  <cp:revision>12</cp:revision>
  <dc:subject/>
  <dc:title>Tiger Talk</dc:title>
</cp:coreProperties>
</file>